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87DE4-8DD5-4062-BB87-117159491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919C1-E7C7-43E3-8A9C-1BCD88055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F4825-AC23-4D04-857B-5B5F031D2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4F7F5-6222-4827-9068-D8160EEA0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91EA8-2F14-4829-BF62-720FC1A5F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CDBC0-A99E-4453-BE6E-C450B40F6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664DF-7382-4CE9-85EF-C563DD8A5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D06C3-04B4-4BAD-A1B9-9B535094F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87A67-21FD-4207-98B8-0F3BD7E32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862FC-B566-4D07-B8A0-72844EA59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DAF2A-2A95-4B36-AD96-7A76898EE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9225F-5B60-410D-9EDC-D95FF92A8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79A92-EB95-4471-99A6-C943D9FF9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4D543-60F6-451D-84B5-574E1F3F9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68B4D-AB4B-4B24-AA8E-C52CB5146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CDC1F-6F44-4794-B9CA-390669B3D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34287-CA42-4C60-A2F4-49EFCC9B7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B6A45-A93A-4938-9735-40EC91A20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BC315-C2AE-4D51-8553-E5223FA7A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5FB99-526E-4719-B168-5190388BB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48DAE-3068-457A-A824-E377B3DAE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5F33F-6D6B-43D1-A08F-3D364531F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6C346-A32C-4D77-90CB-D96BF291D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BAF22-CED0-4921-A9FE-C52586FF5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8CD42-FB30-4C6F-8917-3D84FE067EE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CE2F2-3F29-4369-8839-A4C0EAC90D3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SIOP</a:t>
            </a:r>
            <a:br>
              <a:rPr sz="4800"/>
            </a:b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November 17, 2006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ed b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mazing Aspen San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Kharismatic Kim Fis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arcastic Scott El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Objectives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	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077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Faculty will engage in practice with the four features of the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Interacti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component of the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OP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®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Faculty will discuss the importance of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Interacti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Interaction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requent opportunities for interacti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/or discussion between teacher/student and among students that encourage elaborated responses about lesson concep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roup configurati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upport language and content objectives of the les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fficient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ait time for student 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ple opportunities for students to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arify key concepts in L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Frequent Opportunities for Interaction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rning is more affective when students have opportunity to participate fully in lessons by discussing ideas and inform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ents benefit from communicating their ideas, opinions, and answers with pe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acher tends to do most of the talking and with frequent interaction opportunities a balance between the teacher and student is crea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Grouping Configuration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077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may seem logical to group low-level English Language Learners with low-achieving students because their academic abilities seem the sa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heterogeneous groups of learners with various language levels and proficienc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a variety of grouping structures: partners, triads, small groups, cooperative learning groups, or whole-grou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Wait Time for Student Respons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it time allows English Language Learners time to gather their thoughts without interrup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a balance between wait time and covering materi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arify Key Concepts in L1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rification of concept in L1 provides important support for the academic learning of English Language Learn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portunity to clarify English concept in L1 by speaking with an aide or pe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of bilingual dictionary to clarify concepts as wel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Interaction Idea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up Response with White Bo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er-Writer-Speaker Response Tria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ide-Outside Cir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d Your Mat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allery Wal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Revisiting the Objectiv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Faculty will engage in practice with the four features of the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Interacti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component of the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OP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®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Faculty will discuss the importance of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Interacti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6T21:53:14Z</dcterms:created>
  <dc:creator>annramirez</dc:creator>
  <dc:description/>
  <dc:language>en-US</dc:language>
  <cp:lastModifiedBy>asanders1</cp:lastModifiedBy>
  <dcterms:modified xsi:type="dcterms:W3CDTF">2006-11-07T17:21:50Z</dcterms:modified>
  <cp:revision>52</cp:revision>
  <dc:subject/>
  <dc:title>District #6 SIOP Trainer of Trainers </dc:title>
</cp:coreProperties>
</file>